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7A1-719A-428B-BDCF-30C82883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B02-4BB4-4C13-8D6E-4340F2A9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515C-3D52-449C-A8D3-CFCA5BC1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41D-B9EA-4631-8647-1C2E0086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8839-F026-4ABD-AD3A-C70E2E791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55DC-00E9-4EED-AC24-1BD40DC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966A-4161-4511-B06C-2F19F13B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5FF5-7F6E-46D3-9D44-56960E57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7EFE-BD7B-42AC-B93A-BF9763D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491C-8689-4E9C-91A1-9BD7FB2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9847-25E6-4DF5-A271-E3D9798B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A01E-A556-4DC2-ABA9-C9F18608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D694-0802-4503-BCDE-F23D20F7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F2D0-3F7A-481C-89B1-455E4AF5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9AB2-ACAD-44D4-9214-1213EB68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51A-F958-437B-BBF7-05CD1A65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AB13-B7F4-4724-8342-32FAD24D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0A2-5200-49FA-B8A6-8DBC2D25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FB4-C6FF-41FF-96D6-5EF70015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5E6-284A-46CE-87AB-B5256B23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F27C-6756-4B9A-931E-02619B4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A1C-FFAC-4675-A01D-AA7FAF63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8A5-101C-407F-87BA-97447FD9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D9E-85E8-408B-93E5-424FB64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40ED-0E19-4957-950A-C215D9949C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8DAB-7343-41BE-ADFB-4F22421518B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s 1-5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++ 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1 – the big pi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je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as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herita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usabil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ymorphism and Overloa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2 – c++ basic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Variable Typ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teg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Characte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scape Sequenc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Float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Manipulator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dl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etw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oubl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Long Double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Unsigned vs. Signed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Type Conversion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rithmetic Operator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Remainder operator (%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Assignment operators (=, +=, -=, *=, /= %=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Increment operators(++, var = var + inc, var +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refix and Postfix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Decrement operators(--, var = var – inc, var -= inc)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Library Function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eader and Library files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wo ways to use #includ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3 – Loops and 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Relational Operators (&lt;,&gt;,==, &lt;=, &gt;=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or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ile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do loop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Decision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f…els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ested if…else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witch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break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continue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oto statement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it() function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getche() funct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Assignment expression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Conditional operator (a&lt;b ? a : b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Logical Operator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nd (&amp;&amp;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or (||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ot (!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4 - Structur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Structur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required includes ab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 par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model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t partnumber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loat cost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main cod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modelnumber = 526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partnumber = 37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rt1.cost = 217.55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//output inf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claring structure and defining it in structur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tru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{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} part1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ructures within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ccess of nested structur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pstructure.bottomstructure.bottomstructurevariable = 13;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++ structures can hold functions and data but are usable used only for data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Enumerated Data types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A finite list of values that the data type can take on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num finitelist { 1, 4, 6, 9 }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1 = 9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finitelist flist2 = 4;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5 - Fun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imple Functions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return value, use void typ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lling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Declaration can be eliminated if the function appears before the first call to the func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assing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value (ie. Copy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ssing by referenc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Valu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return a value, the function must be declared and defined with a value other than voi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turn stateme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ested express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ference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ndicated by &amp; connected to type definit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Overloaded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n have different variable types and different arguments but the same na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line Function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uts the function inside the code each time the function is call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Default Argument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nables only part of the arguments to be used, the rest are defaul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char=‘*’, int=45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);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All legal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=’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Arial Black"/>
              </a:rPr>
              <a:t>Repchar(‘+’, 30);</a:t>
            </a: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Variable storage types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utomatic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ternal / Global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Static automatic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Returning By Reference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0:10:52Z</dcterms:created>
  <dc:creator>Alexander S. Davis</dc:creator>
  <dc:description/>
  <dc:language>en-US</dc:language>
  <cp:lastModifiedBy>Alexander Davis</cp:lastModifiedBy>
  <dcterms:modified xsi:type="dcterms:W3CDTF">2009-06-26T21:03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