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159-0762-4C04-9242-0527B2DC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438-286C-4472-B9F5-5B8704A8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E8C-721E-4025-9CDF-ABD54F7E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256-80F7-48ED-8349-E43ABB2D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41B5-76EA-463F-9FCF-1579DAB6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8F5D-BCFE-47A2-ABD5-788DDB33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5C15-BEE0-4ACA-87F0-9274F79E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69FC-3454-478C-9A4C-8862A28E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FB9A-DC4A-48D9-80C8-9FDCC7E1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4777-3D90-4FBC-9385-E0BF37A6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BF8A-B263-478F-8A3D-C78A22DF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FD7-5CBD-4A30-8E0E-BBC58586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C66C-5A72-4A1A-8437-B840A01D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BC16-3D60-4BAE-8A9F-363F68DB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4BAD-8C24-4858-8353-F154315D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6072-A807-493E-A09E-A1F93348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F3DA-84AB-4335-94AB-0F19164B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3A1-DD75-436A-AF8A-6C89DBAC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3A0-C3EB-43BB-BD43-64573DCC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865-BC43-42CA-9F4F-3F1AC0DD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06D-3CA6-4557-BB97-B3A2062F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01B-65A7-435F-A21A-E30BDB69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C11-563A-4B60-9F2C-16D51FE7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ECB-DAB1-4BFF-AD13-FEB1D16E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E018-D931-4CAA-B0E0-EF24E75C7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81DF-8730-4BF7-995D-6581AC1656F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s 1-5 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++ Cla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1 – the big pi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bje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a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heri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usabi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lymorphism and Overloa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2 – c++ basic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unction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Variable Typ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tege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Characte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scape Sequenc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Float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Manipulato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d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etw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Long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oubl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Long Double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Unsigned vs. Signed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Type Conversion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rithmetic Operator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Remainder operator (%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Assignment operators (=, +=, -=, *=, /= %=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crement operators(++, var = var + inc, var += inc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refix and Postfix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ecrement operators(--, var = var – inc, var -= inc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ibrary Function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ader and Library fi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wo ways to use #includ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3 – Loops and Decis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elational Operators (&lt;,&gt;,==, &lt;=, &gt;=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oop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or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ile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o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ecisio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f…else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ested if…els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witch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reak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ontinue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oto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xit() function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getche() func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ssignment express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Conditional operator (a&lt;b ? a : b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ogical Operato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nd (&amp;&amp;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r (||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ot (!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4 - Structur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tructur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mple structur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required includes ab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truct par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{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t modelnumber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t partnumber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loat cost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}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main cod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 part1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modelnumber = 526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partnumber = 373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cost = 217.55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output inf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Declaring structure and defining it in structur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tru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{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} part1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tructures within structur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Access of nested structur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pstructure.bottomstructure.bottomstructurevariable = 13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++ structures can hold functions and data but are usable used only for data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Enumerated Data typ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A finite list of values that the data type can take on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um finitelist { 1, 4, 6, 9 }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nitelist flist1 = 9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nitelist flist2 = 4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5 - Fun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mple Functions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return value, use void typ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lara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ling the Func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fini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laration can be eliminated if the function appears before the first call to the func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assing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sing by value (ie. Copy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sing by refere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turning Valu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return a value, the function must be declared and defined with a value other than voi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turn state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sted express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ference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dicated by &amp; connected to type defini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Overloaded Function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n have different variable types and different arguments but the same na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Inline Function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uts the function inside the code each time the function is call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Default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ables only part of the arguments to be used, the rest are defaul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char=‘*’, int=45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);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All legal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‘=’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‘+’, 30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Variable storage typ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utomatic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ternal / Global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tatic automatic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turning By Referenc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0:10:52Z</dcterms:created>
  <dc:creator>Alexander S. Davis</dc:creator>
  <dc:description/>
  <dc:language>en-US</dc:language>
  <cp:lastModifiedBy>Alexander Davis</cp:lastModifiedBy>
  <dcterms:modified xsi:type="dcterms:W3CDTF">2009-06-26T21:03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