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3C53-D530-4148-A1C1-80843C2AC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3C80-3B30-4298-944B-ED5A6A77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6B0C-25D1-40D5-8699-E9CB91081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408F-995C-4AAF-8366-24590957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D15F-4EB7-4280-9BB5-9F93B538C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ED53-DFCA-4C2D-B681-9478EB86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A4FF-B1BD-441B-BE75-D4BEE6E6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FDD6-BFEB-4D27-B0FA-2AB23A33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8259-A3FB-4453-BBCC-E49F1AF6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DE5F-D46C-4BCB-9D90-793AEFEE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3CCD-94E4-4387-8A30-0388A514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5D44-B85E-437C-B74C-161C578B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C422-799B-4672-8990-6AA2AB90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B9A8-86B9-44F2-95B9-7EA2A8CF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D931-13D4-4B9F-B5CB-DC3DBF9D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96A1-6096-4D58-B9EA-F2FE482F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C8C1-1ABD-485A-9A1E-862E2E00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06BC-0559-49BC-8EED-EA962195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8E66-D68C-40BE-B2D7-2F3B3E98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3184-0DB4-4F12-AFC3-29FD1D35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FA80-6633-4446-ACD4-BF884DEE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C2B0-2430-4521-9BC1-C348FB6B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AEA0-EBC3-414F-AD1D-23D0F4DC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CAF6-9962-4156-AA13-48B8F022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7E50-D424-449A-9222-BC7A0B0330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7E77-EDE1-46FE-9E58-3CCA07C4FE34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s 1-5 Review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++ Clas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 1 – the big pictu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bjec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as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nherita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usabilit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lymorphism and Overload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 2 – c++ basic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Function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Variable Type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Integer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Character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Escape Sequence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Float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Manipulator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endl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setw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Long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Double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Long Double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Unsigned vs. Signed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Type Conversion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Arithmetic Operator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Remainder operator (%)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Assignment operators (=, +=, -=, *=, /= %=)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Increment operators(++, var = var + inc, var += inc)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Prefix and Postfix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Decrement operators(--, var = var – inc, var -= inc)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Library Function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eader and Library file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wo ways to use #includ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 3 – Loops and Decis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Relational Operators (&lt;,&gt;,==, &lt;=, &gt;=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Loop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for loop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while loop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do loop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Decision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if…else statemen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Nested if…els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witch statemen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break statemen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continue statemen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goto statemen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exit() function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getche() function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Assignment expression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Conditional operator (a&lt;b ? a : b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Logical Operator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and (&amp;&amp;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or (||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not (!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 4 - Structur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Structure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Simple structure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//required includes abov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truct par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{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nt modelnumber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nt partnumber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float cost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}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//main cod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rt part1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rt1.modelnumber = 526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rt1.partnumber = 373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rt1.cost = 217.55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//output info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Declaring structure and defining it in structure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truc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{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} part1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Structures within structure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Access of nested structure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opstructure.bottomstructure.bottomstructurevariable = 13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C++ structures can hold functions and data but are usable used only for data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Enumerated Data type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A finite list of values that the data type can take on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enum finitelist { 1, 4, 6, 9 }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finitelist flist1 = 9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finitelist flist2 = 4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 5 - Func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Simple Functions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o return value, use void typ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Declaratio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lling the Functio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Definitio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Declaration can be eliminated if the function appears before the first call to the functio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Passing argument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ssing by value (ie. Copy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ssing by referenc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Returning Value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o return a value, the function must be declared and defined with a value other than voi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return statemen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ested expressi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Reference Argument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ndicated by &amp; connected to type definitio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Overloaded Function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n have different variable types and different arguments but the same nam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Inline Function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uts the function inside the code each time the function is call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Default Argument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nables only part of the arguments to be used, the rest are defaul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xampl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Repchar(char=‘*’, int=45);</a:t>
            </a: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Repchar();</a:t>
            </a: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All legal</a:t>
            </a: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Repchar(‘=’);</a:t>
            </a: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Repchar(‘+’, 30);</a:t>
            </a: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Variable storage type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utomatic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xternal / Global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Static automatic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Returning By Reference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0:10:52Z</dcterms:created>
  <dc:creator>Alexander S. Davis</dc:creator>
  <dc:description/>
  <dc:language>en-US</dc:language>
  <cp:lastModifiedBy>Alexander Davis</cp:lastModifiedBy>
  <dcterms:modified xsi:type="dcterms:W3CDTF">2009-06-26T21:03:01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