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ACF3-E826-43EB-B4AC-BA2CB8CF3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A0E3-419F-452B-A169-F28EAD60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1B81-CE4E-4798-AB56-D1B8067F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FB19-D633-4371-845D-3F324D69E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EE45-0B5A-48BB-8AD8-248EC7E54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D0A5-76B1-4307-BDC7-7C3290F4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37C6-082F-4D33-BC33-045E4CF2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2A17-8CBD-4ED8-BBFA-43BCA2AA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8707-A034-41F3-8157-25F06E9C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11FF-BA82-43C2-8F57-591FF7D2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AB2C-7892-4B66-8EFF-0D01E4CB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77B9-B89D-49F8-B972-E8792436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A0C74-B5E3-4FA0-9366-FF7E2DF1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DE48-EEE2-4DE8-B04E-D04B4E55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DA13-B467-4344-A847-ED179D62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902B-ADEC-4549-83B6-DA9E901AC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EB4D-A0C8-468E-A2C6-B98C25A0A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DD6A-3268-46D8-A113-921262FE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F987-43C4-434B-B27C-B2CC0128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9C08-5AF5-42EE-99E7-5A52625F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40EB-AA46-4BF3-ABF5-504291C4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6AF4-D469-426D-A5A7-F7409F9E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5F06-A92F-41DC-A6FB-61E35853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C49A-A5AE-4910-8611-950C2613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0D1E-7C58-4C77-83DF-B1814871B3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57DA-0419-4164-BABC-035F18D5725E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pters 1-5 Review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++ Clas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pter 1 – the big pictu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bjec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as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nherita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usabilit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olymorphism and Overload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pter 2 – c++ basic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Function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Variable Type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Integer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Character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Escape Sequence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Float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Manipulator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endl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setw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Long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Double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Long Double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Unsigned vs. Signed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Type Conversion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Arithmetic Operator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Remainder operator (%)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Assignment operators (=, +=, -=, *=, /= %=)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Increment operators(++, var = var + inc, var += inc)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Prefix and Postfix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Decrement operators(--, var = var – inc, var -= inc)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Library Function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Header and Library file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Two ways to use #includ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pter 3 – Loops and Decis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Relational Operators (&lt;,&gt;,==, &lt;=, &gt;=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Loop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for loop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while loop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do loop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Decision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if…else statemen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Nested if…els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witch statemen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break statemen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continue statemen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goto statemen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exit() function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getche() function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Assignment expression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Conditional operator (a&lt;b ? a : b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Logical Operator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and (&amp;&amp;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or (||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not (!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pter 4 - Structur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Structure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Simple structure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//required includes abov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truct par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{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nt modelnumber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nt partnumber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float cost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}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//main cod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rt part1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rt1.modelnumber = 526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rt1.partnumber = 373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rt1.cost = 217.55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//output info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Declaring structure and defining it in structure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truc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{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} part1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Structures within structure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Access of nested structure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opstructure.bottomstructure.bottomstructurevariable = 13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C++ structures can hold functions and data but are usable used only for data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Enumerated Data type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A finite list of values that the data type can take on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enum finitelist { 1, 4, 6, 9 }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finitelist flist1 = 9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finitelist flist2 = 4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pter 5 - Func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Simple Functions 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o return value, use void typ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Declaratio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alling the Functio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Definitio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Declaration can be eliminated if the function appears before the first call to the functio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Passing argument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ssing by value (ie. Copy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ssing by referenc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Returning Value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o return a value, the function must be declared and defined with a value other than voi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return statemen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ested expression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Reference Argument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ndicated by &amp; connected to type definitio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Overloaded Function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an have different variable types and different arguments but the same nam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Inline Function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uts the function inside the code each time the function is call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Default Argument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nables only part of the arguments to be used, the rest are default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xampl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c00"/>
                </a:solidFill>
                <a:latin typeface="Arial Black"/>
              </a:rPr>
              <a:t>Repchar(char=‘*’, int=45);</a:t>
            </a: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c00"/>
                </a:solidFill>
                <a:latin typeface="Arial Black"/>
              </a:rPr>
              <a:t>Repchar();</a:t>
            </a:r>
            <a:r>
              <a:rPr b="0" lang="en-US" sz="1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000" spc="-1" strike="noStrike">
                <a:solidFill>
                  <a:srgbClr val="ffcc00"/>
                </a:solidFill>
                <a:latin typeface="Arial Black"/>
              </a:rPr>
              <a:t>All legal</a:t>
            </a: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c00"/>
                </a:solidFill>
                <a:latin typeface="Arial Black"/>
              </a:rPr>
              <a:t>Repchar(‘=’);</a:t>
            </a: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c00"/>
                </a:solidFill>
                <a:latin typeface="Arial Black"/>
              </a:rPr>
              <a:t>Repchar(‘+’, 30);</a:t>
            </a: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Variable storage type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utomatic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xternal / Global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Static automatic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Returning By Reference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0:10:52Z</dcterms:created>
  <dc:creator>Alexander S. Davis</dc:creator>
  <dc:description/>
  <dc:language>en-US</dc:language>
  <cp:lastModifiedBy>Alexander Davis</cp:lastModifiedBy>
  <dcterms:modified xsi:type="dcterms:W3CDTF">2009-06-26T21:03:01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