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333-B023-469E-8B10-E95E85A8D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2BA-6A4E-4F67-B060-69D5793A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9D4-B183-45EB-A069-42AFC9E8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BF93-A06E-416B-868D-D3347196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9884-F88C-4263-A9A6-D2211D74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44AE-4A5B-45FD-9AE1-525FA814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879F-C983-4A46-8FE6-DB1F002B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0FE7-9560-423E-BEA7-35CCB10E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170-4027-4CCB-A855-A358348E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E85E-B3B6-44B3-91C4-7BE191C0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7C0C-3505-4825-9CB8-2C1CB5FE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CFD-7CCE-4717-8342-4DD14101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6190-98A2-4B40-A721-5BA3862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B97D-ACCC-48D6-9A60-BABB088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8962-5CFC-4116-8443-E2AFE578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03F4-9953-4950-8539-271A0F9B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C5AF-1F82-451C-A781-1C8FE143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A2F-B6AD-40E1-9E63-BFC29EB1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4BA4-60E0-410C-939F-691A971A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37EB-565F-4F83-AFA1-60D45D49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686-8A27-4DAB-A31D-67C0E440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451-2593-4F5B-9E4C-B9111259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E1D-6E72-48BF-8BDB-387633E7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80D-F209-44A2-9CB1-E513B47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12A-A4DD-4D7C-B26A-C9BEDC8EE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36A9-0711-44B9-BE08-1DE9F272E8A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s 1-5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++ 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1 – the big pi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je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heri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usab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lymorphism and Overlo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2 – c++ bas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ariable Typ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teg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Charact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scape Sequenc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Float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Manipulato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d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etw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oubl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 Doubl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Unsigned vs. Signe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ype Conversion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rithmetic Operator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Remainder operator (%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Assignment operators (=, +=, -=, *=, /= %=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rement operators(++, var = var + inc, var +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refix and Postfix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crement operators(--, var = var – inc, var -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ibrary 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ader and Library fi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wo ways to use #inclu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3 – Loops and 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elational Operators (&lt;,&gt;,==, &lt;=, &gt;=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op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r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ile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cis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f…els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ested if…els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witch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reak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ntinu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to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it() function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etche() fun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 express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nditional operator (a&lt;b ? a : b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gical Opera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nd (&amp;&amp;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r (||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ot (!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4 - Struc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tructur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required includes ab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 par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model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part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loat cost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main cod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modelnumber = 526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partnumber = 37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cost = 217.55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output inf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claring structure and defining it in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ructures within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ccess of nested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pstructure.bottomstructure.bottomstructurevariable = 1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++ structures can hold functions and data but are usable used only for data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Enumerated Data typ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 finite list of values that the data type can take on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um finitelist { 1, 4, 6, 9 }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1 = 9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2 = 4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5 - Fun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Functions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return value, use void typ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ling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 can be eliminated if the function appears before the first call to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assing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value (ie. Copy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refere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Valu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return a value, the function must be declared and defined with a value other than voi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turn state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sted express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ference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dicated by &amp; connected to type 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Overloaded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n have different variable types and different arguments but the same na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line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uts the function inside the code each time the function is call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fault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ables only part of the arguments to be used, the rest are defaul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char=‘*’, int=45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);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All legal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=’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+’, 30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Variable storage typ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utomat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ternal / Global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atic automatic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By Referenc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0:10:52Z</dcterms:created>
  <dc:creator>Alexander S. Davis</dc:creator>
  <dc:description/>
  <dc:language>en-US</dc:language>
  <cp:lastModifiedBy>Alexander Davis</cp:lastModifiedBy>
  <dcterms:modified xsi:type="dcterms:W3CDTF">2009-06-26T21:03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